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cashreg.wav" ContentType="audio/x-wav"/>
  <Override PartName="/ppt/media/image1.png" ContentType="image/png"/>
  <Override PartName="/ppt/media/coin.wav" ContentType="audio/x-wav"/>
  <Override PartName="/ppt/media/image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explode.wav" ContentType="audio/x-wav"/>
  <Override PartName="/ppt/media/wind.wav" ContentType="audio/x-wav"/>
  <Override PartName="/ppt/media/image7.png" ContentType="image/png"/>
  <Override PartName="/ppt/media/click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1424-2ADD-4762-815B-7C9D8B98B1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BD02-3AEE-4812-ACA6-FE2CB888954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1BB0-D5FB-4069-86B2-A4292CB12E6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F9D-2A37-48FD-9E95-0F23E3D917C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E5BB-A0C8-4F65-B6B7-754CEE3FB96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D646-7E33-41B5-A2E0-B430BE071DE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38C2-BC7E-4A74-A0B5-FF658FFEF31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0484-CE86-45B2-BE15-A9BD4A006DA3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3CA4-0E79-435D-BB5F-39B086ADEFB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46B7-3CAB-46EB-87E8-E395E1DD6AB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중간에 졸 수도 있으니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^^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뿐만은 아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F429-9A51-41AE-89CA-47F8EC34FD6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컨닝 페이퍼는 여기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하지만 실제로 발표 중에는 보이지 않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라서 따로 출력해 놓는 것이 좋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Pp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모든 것을 적어 놓고 그대로 읽다 보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듣는 사람들이 발표자의 말을 안 듣고 화면의 글씨만 읽고 끝내게 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FF5E-DB6B-4FC6-A413-49C66E13492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F951-29A2-46A8-9C63-B1193939C6E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9370-57CC-44B5-B712-7C8D3EEDF5D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EC5A-A19F-4618-8634-9E50A7E59BA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7CC1-D407-4BA5-8DB9-35D97D03F4A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52B6-3F6E-4BB3-9631-33E3ADC6080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D957-A321-487C-B523-F8F13039D3C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7C5-2D59-4A3F-89A5-0F6BED05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C81-28C2-49C8-8831-C777E3FA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0A2-C0AE-4729-9763-DE6CFE64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495-3EC6-4641-9086-A42178E1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529-8446-4CEC-BED3-6067A5F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BBD-43B0-494A-80AF-BBB14075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560-11BD-407A-9BFD-89766EF3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042-491C-406B-AA7A-DB375AFA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852-E3B7-405E-A04C-628ECE9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6DD-5CC9-4247-AE8F-1D32094C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D1D-4B0F-45D3-9D13-ACBE0F6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D5F-661E-47F0-BF17-AAA3D2C6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c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Georgi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E352-D3B3-4695-86DC-0E79FBE372BF}" type="slidenum">
              <a:rPr b="0" lang="ko-KR" sz="1200" spc="-1" strike="noStrike">
                <a:solidFill>
                  <a:srgbClr val="ffffff"/>
                </a:solidFill>
                <a:latin typeface="Georgia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pvgfmEU2Ck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rebuchet MS"/>
              </a:rPr>
              <a:t>PowerPoint</a:t>
            </a: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를 이용한 </a:t>
            </a:r>
            <a:br>
              <a:rPr sz="4400"/>
            </a:br>
            <a:r>
              <a:rPr b="1" lang="ko-KR" sz="4400" spc="-1" strike="noStrike">
                <a:solidFill>
                  <a:srgbClr val="ffc000"/>
                </a:solidFill>
                <a:latin typeface="Trebuchet MS"/>
              </a:rPr>
              <a:t>발표 길라잡이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Georgia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Georgia"/>
              </a:rPr>
              <a:t>월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8</a:t>
            </a:r>
            <a:r>
              <a:rPr b="0" lang="ko-KR" sz="3200" spc="-1" strike="noStrike">
                <a:solidFill>
                  <a:srgbClr val="ffffff"/>
                </a:solidFill>
                <a:latin typeface="Georgia"/>
              </a:rPr>
              <a:t>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Georgia"/>
              </a:rPr>
              <a:t>정동욱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44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나중에 한꺼번에 글꼴을 바꿔줄 수는 없을까</a:t>
            </a:r>
            <a:r>
              <a:rPr b="1" lang="en-US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1800" y="2349360"/>
            <a:ext cx="44262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홈 </a:t>
            </a:r>
            <a:r>
              <a:rPr b="1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&gt; </a:t>
            </a: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바꾸기 </a:t>
            </a:r>
            <a:r>
              <a:rPr b="1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&gt; </a:t>
            </a: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글꼴 바꾸기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57952" t="0" r="0" b="56302"/>
          <a:stretch/>
        </p:blipFill>
        <p:spPr>
          <a:xfrm>
            <a:off x="826920" y="3141720"/>
            <a:ext cx="390384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076720" y="2421000"/>
            <a:ext cx="3521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단축키의 사용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Shift+Ctrl+C </a:t>
            </a:r>
            <a:r>
              <a:rPr b="0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서식 복사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Shift+Ct</a:t>
            </a:r>
            <a:r>
              <a:rPr b="0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기</a:t>
            </a:r>
            <a:r>
              <a:rPr b="0" lang="en-US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+V </a:t>
            </a:r>
            <a:r>
              <a:rPr b="0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서식 붙여넣기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44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6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텍스트는 가독성이 있어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나눔고딕"/>
                <a:ea typeface="나눔고딕"/>
              </a:rPr>
              <a:t>나눔명조 </a:t>
            </a:r>
            <a:r>
              <a:rPr b="0" lang="en-US" sz="2400" spc="-1" strike="noStrike">
                <a:solidFill>
                  <a:srgbClr val="ffc000"/>
                </a:solidFill>
                <a:latin typeface="나눔고딕"/>
                <a:ea typeface="나눔고딕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나눔고딕"/>
                <a:ea typeface="나눔고딕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나눔고딕"/>
                <a:ea typeface="나눔고딕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나눔명조"/>
                <a:ea typeface="나눔명조"/>
              </a:rPr>
              <a:t>나눔명조</a:t>
            </a:r>
            <a:r>
              <a:rPr b="0" lang="en-US" sz="2400" spc="-1" strike="noStrike">
                <a:solidFill>
                  <a:srgbClr val="ffc000"/>
                </a:solidFill>
                <a:latin typeface="나눔명조"/>
                <a:ea typeface="나눔명조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나눔명조"/>
                <a:ea typeface="나눔명조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나눔명조"/>
                <a:ea typeface="나눔명조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윤고딕</a:t>
            </a:r>
            <a:r>
              <a:rPr b="0" lang="en-US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540</a:t>
            </a:r>
            <a:r>
              <a:rPr b="0" lang="en-US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YDIYGo540"/>
                <a:ea typeface="YDIYGo540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휴먼명조"/>
                <a:ea typeface="휴먼명조"/>
              </a:rPr>
              <a:t>휴먼명조</a:t>
            </a:r>
            <a:r>
              <a:rPr b="0" lang="en-US" sz="2400" spc="-1" strike="noStrike">
                <a:solidFill>
                  <a:srgbClr val="ffc000"/>
                </a:solidFill>
                <a:latin typeface="휴먼명조"/>
                <a:ea typeface="휴먼명조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휴먼명조"/>
                <a:ea typeface="휴먼명조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휴먼명조"/>
                <a:ea typeface="휴먼명조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나눔손글씨 붓</a:t>
            </a:r>
            <a:r>
              <a:rPr b="0" lang="en-US" sz="24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나눔손글씨 펜"/>
                <a:ea typeface="나눔손글씨 펜"/>
              </a:rPr>
              <a:t>나눔손글씨 펜</a:t>
            </a:r>
            <a:r>
              <a:rPr b="0" lang="en-US" sz="2400" spc="-1" strike="noStrike">
                <a:solidFill>
                  <a:srgbClr val="ffc000"/>
                </a:solidFill>
                <a:latin typeface="나눔손글씨 펜"/>
                <a:ea typeface="나눔손글씨 펜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나눔손글씨 펜"/>
                <a:ea typeface="나눔손글씨 펜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나눔손글씨 펜"/>
                <a:ea typeface="나눔손글씨 펜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맑은 고딕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	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어떤 글꼴이 가독성이 있을까요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사용한 글꼴이 깨지지 않으려면</a:t>
            </a:r>
            <a:r>
              <a:rPr b="0" lang="en-US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0" t="0" r="39102" b="5266"/>
          <a:stretch/>
        </p:blipFill>
        <p:spPr>
          <a:xfrm>
            <a:off x="617400" y="1484280"/>
            <a:ext cx="4660920" cy="424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132000" y="2808360"/>
            <a:ext cx="572940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7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특수 효과는 적정한 선에서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그래도 활용할 만한 유용한 효과 없을까</a:t>
            </a:r>
            <a:r>
              <a:rPr b="1" lang="en-US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63280" y="3068640"/>
            <a:ext cx="1513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왼쪽부터</a:t>
            </a:r>
            <a:endParaRPr b="0" lang="en-US" sz="30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419640" y="1989000"/>
            <a:ext cx="57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위에서부터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643280" y="3284640"/>
            <a:ext cx="5763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아래서부터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940360" y="3068640"/>
            <a:ext cx="23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오른쪽부터 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47640" y="53737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위의 효과는 </a:t>
            </a:r>
            <a:r>
              <a:rPr b="1" lang="ko-KR" sz="18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닦아내기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의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지 옵션을 이용해 만든 것으로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이 설명은 </a:t>
            </a:r>
            <a:r>
              <a:rPr b="1" lang="ko-KR" sz="18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타이머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와 </a:t>
            </a:r>
            <a:r>
              <a:rPr b="1" lang="ko-KR" sz="1800" spc="-1" strike="noStrike">
                <a:solidFill>
                  <a:srgbClr val="ffc000"/>
                </a:solidFill>
                <a:latin typeface="맑은 고딕"/>
                <a:ea typeface="맑은 고딕"/>
              </a:rPr>
              <a:t>밝기 변화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를 이용해 시간차를 두고 나타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8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그림을 적절히 활용하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이 길라잡이 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ppt</a:t>
            </a: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는 그림을 잘 활용하지 못하고 있음</a:t>
            </a:r>
            <a:r>
              <a:rPr b="0" lang="en-US" sz="2600" spc="-1" strike="noStrike">
                <a:solidFill>
                  <a:srgbClr val="ffc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아래 동영상을 시청해볼까요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://www.youtube.com/watch?v=lpvgfmEU2Ck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요약해볼까요</a:t>
            </a:r>
            <a:r>
              <a:rPr b="1" lang="en-US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835280" y="1599840"/>
            <a:ext cx="685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시작과 끝에 핵심을 전달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PPT</a:t>
            </a: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는 컨닝페이퍼가 아니다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너무 많은 목록을 나열하지 말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자료는 주장이 드러나도록 제시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디자인의 일관성을 유지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텍스트는 가독성이 있어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특수효과는 적정한 선에서 활용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나눔손글씨 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그림을 적절히 활용하라</a:t>
            </a: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1. </a:t>
            </a:r>
            <a:r>
              <a:rPr b="1" lang="ko-KR" sz="3600" spc="-1" strike="noStrike">
                <a:solidFill>
                  <a:srgbClr val="ffffff"/>
                </a:solidFill>
                <a:latin typeface="Trebuchet MS"/>
              </a:rPr>
              <a:t>시작과 끝에 핵심을 전달하라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처음에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런 얘기를 할 것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”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라고 시작해서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,</a:t>
            </a:r>
            <a:br>
              <a:rPr sz="2400"/>
            </a:b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마지막에 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“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이런 얘기를 했다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”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고 마무리할 것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. PPT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는 컨닝페이퍼가 아니다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발표할 모든 내용을 슬라이드에 담지 말자</a:t>
            </a: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그렇다면 컨닝 페이퍼는 어디에</a:t>
            </a:r>
            <a:r>
              <a:rPr b="0" lang="en-US" sz="28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 </a:t>
            </a:r>
            <a:endParaRPr b="0" lang="en-US" sz="2800" spc="-1" strike="noStrike">
              <a:solidFill>
                <a:srgbClr val="ffc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ffffff"/>
                </a:solidFill>
                <a:latin typeface="Georgia"/>
              </a:rPr>
              <a:t>↓</a:t>
            </a:r>
            <a:endParaRPr b="0" lang="en-US" sz="19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47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슬라이드 노트는 당당하게 보며 발표하자</a:t>
            </a:r>
            <a:r>
              <a:rPr b="0" lang="en-US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0" t="0" r="41671" b="29304"/>
          <a:stretch/>
        </p:blipFill>
        <p:spPr>
          <a:xfrm>
            <a:off x="2050920" y="620640"/>
            <a:ext cx="496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3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너무 많은 목록을 나열하지 말라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!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000"/>
                </a:solidFill>
                <a:latin typeface="Georgia"/>
              </a:rPr>
              <a:t>왼쪽 목록입니다</a:t>
            </a:r>
            <a:r>
              <a:rPr b="1" lang="en-US" sz="2400" spc="-1" strike="noStrike">
                <a:solidFill>
                  <a:srgbClr val="ffc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1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번 항목 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 내용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 내용 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하위 하위 내용 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1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lvl="3" marL="1600200" indent="-228600">
              <a:spcBef>
                <a:spcPts val="400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c000"/>
                </a:solidFill>
                <a:latin typeface="Georgia"/>
              </a:rPr>
              <a:t>하위 하위 하위 내용 </a:t>
            </a:r>
            <a:endParaRPr b="0" lang="en-US" sz="1600" spc="-1" strike="noStrike">
              <a:solidFill>
                <a:srgbClr val="ffc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000"/>
                </a:solidFill>
                <a:latin typeface="Georgia"/>
              </a:rPr>
              <a:t>하위 하위 내용 </a:t>
            </a:r>
            <a:r>
              <a:rPr b="0" lang="en-US" sz="1800" spc="-1" strike="noStrike">
                <a:solidFill>
                  <a:srgbClr val="ffc000"/>
                </a:solidFill>
                <a:latin typeface="Georgia"/>
              </a:rPr>
              <a:t>2</a:t>
            </a:r>
            <a:endParaRPr b="0" lang="en-US" sz="18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 내용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400" spc="-1" strike="noStrike">
                <a:solidFill>
                  <a:srgbClr val="ffc000"/>
                </a:solidFill>
                <a:latin typeface="Georgia"/>
              </a:rPr>
              <a:t>번 항목</a:t>
            </a:r>
            <a:endParaRPr b="0" lang="en-US" sz="24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 내용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하위내용</a:t>
            </a:r>
            <a:r>
              <a:rPr b="0" lang="en-US" sz="2000" spc="-1" strike="noStrike">
                <a:solidFill>
                  <a:srgbClr val="ffc000"/>
                </a:solidFill>
                <a:latin typeface="Georgia"/>
              </a:rPr>
              <a:t>2</a:t>
            </a:r>
            <a:r>
              <a:rPr b="0" lang="ko-KR" sz="20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6000" y="4365360"/>
            <a:ext cx="4330800" cy="158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왼쪽처럼 심하게 계층화된 목록은 더더욱 금물</a:t>
            </a:r>
            <a:r>
              <a:rPr b="0" lang="en-US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!  </a:t>
            </a:r>
            <a:r>
              <a:rPr b="0" lang="ko-KR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왜</a:t>
            </a:r>
            <a:r>
              <a:rPr b="0" lang="en-US" sz="40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?</a:t>
            </a:r>
            <a:endParaRPr b="0" lang="en-US" sz="40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ko-KR" sz="3200" spc="-1" strike="noStrike">
                <a:solidFill>
                  <a:srgbClr val="ffffff"/>
                </a:solidFill>
                <a:latin typeface="Trebuchet MS"/>
              </a:rPr>
              <a:t>자료는 주장이 드러나도록 제시하라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42472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나눔손글씨 붓"/>
                <a:ea typeface="나눔손글씨 붓"/>
              </a:rPr>
              <a:t>스티브 잡스의 프리젠테이션에서 사용된 자료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65" name="Picture 2" descr="http://gcmouli.com/blog/wp-content/uploads/2008/01/jobs.jpg"/>
          <p:cNvPicPr/>
          <p:nvPr/>
        </p:nvPicPr>
        <p:blipFill>
          <a:blip r:embed="rId1"/>
          <a:stretch/>
        </p:blipFill>
        <p:spPr>
          <a:xfrm>
            <a:off x="395280" y="1125360"/>
            <a:ext cx="83170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5. </a:t>
            </a:r>
            <a:r>
              <a:rPr b="1" lang="ko-KR" sz="4000" spc="-1" strike="noStrike">
                <a:solidFill>
                  <a:srgbClr val="ffffff"/>
                </a:solidFill>
                <a:latin typeface="Trebuchet MS"/>
              </a:rPr>
              <a:t>디자인의 일관성을 유지하라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933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c000"/>
                </a:solidFill>
                <a:latin typeface="Georgia"/>
              </a:rPr>
              <a:t>적절한 템플릿과 슬라이드 마스터를 활용하자</a:t>
            </a:r>
            <a:endParaRPr b="0" lang="en-US" sz="2600" spc="-1" strike="noStrike">
              <a:solidFill>
                <a:srgbClr val="ffc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PPT </a:t>
            </a:r>
            <a:r>
              <a:rPr b="1" lang="ko-KR" sz="4400" spc="-1" strike="noStrike">
                <a:solidFill>
                  <a:srgbClr val="ffffff"/>
                </a:solidFill>
                <a:latin typeface="나눔손글씨 붓"/>
                <a:ea typeface="나눔손글씨 붓"/>
              </a:rPr>
              <a:t>템플릿을 슬라이드 마스터로 수정해보자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000"/>
              </a:solidFill>
              <a:latin typeface="Georgia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0" t="0" r="14362" b="75124"/>
          <a:stretch/>
        </p:blipFill>
        <p:spPr>
          <a:xfrm>
            <a:off x="468360" y="1628640"/>
            <a:ext cx="8351640" cy="142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13996" b="60945"/>
          <a:stretch/>
        </p:blipFill>
        <p:spPr>
          <a:xfrm>
            <a:off x="468360" y="3500280"/>
            <a:ext cx="8388360" cy="22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5:54:15Z</dcterms:created>
  <dc:creator>zolaist</dc:creator>
  <dc:description/>
  <dc:language>en-US</dc:language>
  <cp:lastModifiedBy>zolaist</cp:lastModifiedBy>
  <dcterms:modified xsi:type="dcterms:W3CDTF">2011-10-18T12:40:49Z</dcterms:modified>
  <cp:revision>4</cp:revision>
  <dc:subject/>
  <dc:title>PowerPoint를 이용한  발표 길라잡이</dc:title>
</cp:coreProperties>
</file>